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102475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DAD-87EC-4C6C-BB43-33BBEE46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A31-BBFA-480A-9F5A-73F1813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163-E66F-4D38-8CF2-CA969268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133-A612-4191-9150-D7A4DEED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F18-6373-4B8C-ADA1-F7B12A01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192-3BA2-4648-80B4-D3B6E9FB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892-BCBA-42AC-9ECA-50C1ED6D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681-4000-4B63-BCEE-D931352A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75B-DE96-45EF-98DA-EEEC34E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FC7-739C-4932-A5AC-825E4E11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559-3B0B-4E22-A010-5E1AA861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5F3-A01A-4393-BF86-92168D17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94CB-EE87-45DA-8AC7-FAC25FF44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5028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Figura 4.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Dinamica manifest</a:t>
            </a: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rii principalelor simptome clinice ale subluxaţiei atlantoaxiale </a:t>
            </a: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n timpul repoziţiei prin metoda                      de tracţ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7360" y="450720"/>
          <a:ext cx="842328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450720"/>
                    <a:ext cx="84232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6T07:44:54Z</dcterms:created>
  <dc:creator>savga</dc:creator>
  <dc:description/>
  <dc:language>en-US</dc:language>
  <cp:lastModifiedBy>savga</cp:lastModifiedBy>
  <cp:lastPrinted>1996-11-29T12:13:31Z</cp:lastPrinted>
  <dcterms:modified xsi:type="dcterms:W3CDTF">1996-12-22T15:05:54Z</dcterms:modified>
  <cp:revision>6</cp:revision>
  <dc:subject/>
  <dc:title>Заголовок слайда отсутствует</dc:title>
</cp:coreProperties>
</file>